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1B1BD9-6B72-4F1C-8D35-D65FCD47F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E9219D-2E03-4237-80DF-FD8379638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C8AFDB-C9E1-499D-8F6D-279B488D96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DA73E4-04BF-4BCA-A594-BEAB12F18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55BFB-FDEC-4A55-83D6-89E38621F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2FB12-CE84-4292-97BF-6C5CC9B34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C69E2-922A-486C-ADCC-466487A3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C8573-C2CE-4E0C-8D0F-41B51DBD1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6D497-22EF-4AA3-BEEC-2D368D573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F81C3-A035-4802-A5BE-59651C654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81B4A-EE61-44A9-B744-98F28E4A1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F4500-EFCE-4847-9F71-321FA95AC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20555-45C8-4C2A-BD89-003928595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64B7D-40EF-4417-B511-F1BCD411B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36A30-9CBF-45A3-B9F7-184FD3CF3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47EDB-559E-423D-85A2-6F7722C4F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7C7BE-BF85-40B6-8EE5-77AF12212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DC825-DAF9-4D13-B816-4CA3EC192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55AE1-4B62-4342-99EA-94A309160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8C4BF-21C6-4364-ADBA-33B366DF6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70C300-76A9-4FC2-B270-C2F0787BC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7B6DE-D0B8-4761-B491-7A59A3E8D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528A9E-D372-4D04-ACBF-3FC5611AE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09A5E-80AD-4977-A79D-7C0B18DE17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BA12-494F-444A-8724-A8C6D8A11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C406-D774-47D3-A108-EC26183FB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QA Review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4</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BE298DA-B1EA-4AF0-8941-8A217A1CB5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Technical Reviews - 2</a:t>
            </a:r>
            <a:endParaRPr b="0" lang="en-US" sz="36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views are a “filter” for software engineering proces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s are applied at several points during software development and serve to uncover errors and defects that can then be removed</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reviews “purify” the software engineering activit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85F8D9-0823-41AA-BDC8-888772B2B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Technical Reviews - 3</a:t>
            </a:r>
            <a:endParaRPr b="0" lang="en-US" sz="36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work needs reviewing for the same reason that pencils need erasers: To err is huma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reason we need technical reviews is that although people are good at catching some of their own errors, large classes of errors escape the originator more easily than they escape anyone el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CD405-2933-4F20-BE60-620BA71B5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 of Technical Reviews - 4</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lso ensure that any changes to the software are implemented according to pre-defined procedures and standard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704A2-234F-48F4-98A3-093E6DF902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echnical Reviews Are Not!</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budget summ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eduling assess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all progress re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chanism for reprisal or political intrigu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DF42B-66A8-4E69-8591-33BE64479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Management Reviews - 1</a:t>
            </a:r>
            <a:endParaRPr b="0" lang="en-US" sz="36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from a management perspective that the project is making progress according to the project pl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 deliverable is ready for management approv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issues that require management’s atten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1A248-0A82-4AC9-8956-017619662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Management Reviews - 2</a:t>
            </a:r>
            <a:endParaRPr b="0" lang="en-US" sz="36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if the project needs a change of dir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the project through adequate allocation of resour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190B5-549C-4209-ABC5-8301F3584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Role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716EE-4D06-422C-B63E-994E4CE20E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sponsibilities of Roles</a:t>
            </a:r>
            <a:endParaRPr b="0" lang="en-US" sz="5000" spc="-1" strike="noStrike">
              <a:solidFill>
                <a:srgbClr val="ffffff"/>
              </a:solidFill>
              <a:latin typeface="Arial"/>
            </a:endParaRPr>
          </a:p>
        </p:txBody>
      </p:sp>
      <p:sp>
        <p:nvSpPr>
          <p:cNvPr id="13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2B9C6B0-44A8-4897-B8BB-8B541E148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Facilitator</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for providing the background of the work and assigning roles to attende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s all attendees to particip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the meeting focused and mov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for gaining consensus on proble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13EE7-6492-424B-92D9-18153B00B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Author - 1</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the readiness and distribution of material to be review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meeting, the author paraphrases the document a section at a tim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the review</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the review participa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if the entry criteria for the review are me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0139B3-39C3-49D9-A076-4595AC3AF4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eview?</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r meeting during which a work product, or a set of work products, is presented to project personnel, managers, users, or other interested parties for comment or approval.  Types include code review, design review, formal qualification review, requirements review, test readiness review</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610.12-1990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680213-85B5-4EF1-9296-19A8A5D40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Author - 2</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information about the product during all stag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any unclear issu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ing any problems identi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dates for rework and resolutio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FCEC4E-DA55-4676-B225-85BD10592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Recorder</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s and records each defect uncovered during the review meeting</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s an issues list and identifies whose responsibility it is to resolve each issue</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meeting decisions on issues; prepares the minutes; and publishes the minutes, and continually tracks the action ite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F06DF-776A-49D3-A89F-C4A0479CD3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Reviewer</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ds time prior to the meeting reviewing information</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notes of defects and becomes familiar with the product to be reviewed</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strengths of the product</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es that the rework is done</a:t>
            </a: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sts upon clarifying any issues that are not clea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FE7E4D-6C75-404B-898E-87DB5ACAF5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Observer</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member to the project team, who learns the product and observes the review techniqu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1AA5A-8631-4997-BFBF-BD5207BF2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uidelin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cord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e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CC4EDF-28CA-40A1-AD22-64664BCA9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Frequency</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eginning/end of the requirements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eginning/end of the design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eginning/end of the code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beginning/end of the test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of the test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492F2-F712-4878-B562-E6E3CBDC1D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Planning - 1</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 review package one week in advance</a:t>
            </a:r>
            <a:endParaRPr b="0" lang="en-US" sz="32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to be reviewed</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genda</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the individual who will manage the agenda and schedule</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and entrance criteria for the review</a:t>
            </a:r>
            <a:endParaRPr b="0" lang="en-US" sz="2800" spc="-1" strike="noStrike">
              <a:solidFill>
                <a:srgbClr val="000000"/>
              </a:solidFill>
              <a:latin typeface="Arial"/>
            </a:endParaRPr>
          </a:p>
          <a:p>
            <a:pPr lvl="1" marL="705600" indent="-2714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of the review</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E27328-254C-44A6-ABCD-E4EB7F46BD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Planning - 2</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of attendees, their roles and responsibilities</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location</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and time of review</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lassifications that will be used for defects discovered (defect type, defect origin, and defect severity)</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handling issues raised during the review and escalation phas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DB4264-A8D1-446E-B771-716102691D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Meeting - 1</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or begins the meeting with an introduction of agenda, people, and description of their ro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 of the document proceeds to explain the materials, while reviewers raise issues based on advance prepar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DD278-FA19-4383-8898-6F1B1813FF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Meeting - 2</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valid problems, issues, or defects are discovered, they are classified according to their origin or severity and then recorded</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accompanied with the names of individuals who are responsible for resolution and the time frame during which the item will be resolved</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recommendations are also record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47B72-1ADA-40EF-B59D-D74879A523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Reviews - 1</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required improvements in a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re that the deliverable is comple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re that the deliverable is technically corr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progress of the proje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288F77-106F-41B5-B850-CBFA90B61B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Reviewers</a:t>
            </a:r>
            <a:endParaRPr b="0" lang="en-US" sz="4400" spc="-1" strike="noStrike">
              <a:solidFill>
                <a:srgbClr val="000000"/>
              </a:solidFill>
              <a:latin typeface="Arial"/>
            </a:endParaRPr>
          </a:p>
        </p:txBody>
      </p:sp>
      <p:sp>
        <p:nvSpPr>
          <p:cNvPr id="165"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 evaluate  product before the review meet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oduct, not the produc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tone mild, ask questions instead of making accus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k to the review agend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issues, don’t resolve th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discussions of style - stick to technical correctn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FEE2BE-3811-4104-A96D-B920F145DE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s at the End of a Review Meeting</a:t>
            </a:r>
            <a:endParaRPr b="0" lang="en-US" sz="32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ttendees must decide whether 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product without further modif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the product due to severe erro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product provisionall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a follow-up review ses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691D67-B549-48DB-B552-ADDD264C03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Report - 1</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by the recorder, with approval from all attendees, after a week of the review meeting</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report consists of</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reviewe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s of individuals who participated in the review</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inputs to the review</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F6920D-A9C0-45B6-90D2-0526BEEEA1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Report - 2</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unresolved i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issues that need to be escalated to manage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items/ownership/statu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ed recommend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C04E4A-D057-4E15-BC0B-201C2437BAE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work</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responsibility of project manager to ensure that all defects identified in the review are fixed and retes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9BD17D-AD2F-4F5F-BCCE-BEE72B3CB6A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Up</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follow-up, that all discrepancies identified are resolved and the exit criteria for the review have been m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lessons learned during the final report als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E682D-4983-4177-9EDD-29BAEFE3328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different kinds of reviews: business, technical, and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d the review process, meeting, and post-review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8A6519-00CB-492B-A713-F58E9C650A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roads to Software Quality by Alka Jarvis and Vern Crandall, PH 1997 (Ch. 7)</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A Practioner’s Approach by Roger S. Pressman (Ch. 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A9416-41C2-48A2-8CD1-40BFAC2B1723}"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Reviews - 2</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y defects early, thus resulting in cost and time savings </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re the quality of deliverable before the development process is allowed to continue</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eliverable has been reviewed, revised as necessary, and approved, it can be safely used as a basis for further develop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369E8-0A66-4424-978F-0A0AF887B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agues as Critic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particular reason why your friend and colleague cannot also be your sternest critic</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ry Weinbe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DF1A45-3BDA-49D9-BCF2-5B6F544DE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Review</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team members get an opportunity to provide their inpu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hip of the work product is transferred from an individual to a grou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mited) training grou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B4DF0-A7C7-46C4-AB49-26B72CCC31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view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through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A5CB42-87CD-47EA-B588-4C1EBE46F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Business Reviews</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iverable is comple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iverable provides the information required for the next pha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iverable is corr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dherence to the procedures and polic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64D81-71AD-4C83-8B6F-4E5692B2D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Technical Reviews - 1</a:t>
            </a:r>
            <a:endParaRPr b="0" lang="en-US" sz="36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out needed improvements in the product of a single person or a tea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 those parts of a product in which improvement is either not desired or not need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technical work or more uniform, or at least more predictable, quality than can be achieved without reviews, in order to make technical work more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3BA53D-F8C8-4747-A831-1636BBD66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4-17T09:53:55Z</dcterms:modified>
  <cp:revision>54</cp:revision>
  <dc:subject/>
  <dc:title>SQA Reviews</dc:title>
</cp:coreProperties>
</file>